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95C-5141-401E-89B8-3DE35A1D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8412-09E6-4312-B993-FA2EDCC4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664F-73DF-4919-A851-AB2CF156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964-A899-4CFF-A7CE-81113B50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62F3-628A-44F3-863B-DD0BEEFE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2E8-CF3C-4DC0-9B42-E2E04EF7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349-BD1E-45F1-9106-0F91CF9B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05B7-4810-4717-BFFF-6C10D584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421-9049-4676-A4BA-78CBDD2B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9075-5F76-4CC9-96A1-1834341F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3FEF-9320-418C-A0B0-92965C55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A35A-2E53-45B6-ABE8-43F77428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5ACA-B7D0-4943-B54A-14AD117CF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images.google.com/imgres?imgurl=http://iranpoliticsclub.net/history/historical-women/images/Persian%2520Women%2520Warriors-close.jpg&amp;imgrefurl=http://community.wizards.com/go/thread/view/75882/19912706/Character_Concept_Thread_Arabian_Nights_women%3Fnum%3D10%26pg%3D1&amp;usg=__IuoaWy2QD3wrts1DwRKiY_gEBvI=&amp;h=435&amp;w=564&amp;sz=83&amp;hl=en&amp;start=1&amp;um=1&amp;tbnid=7uJy7c0SYHgwZM:&amp;tbnh=103&amp;tbnw=134&amp;prev=/images%3Fq%3Darabian%2Bnights%2Bwarrior%26hl%3Den%26safe%3Dstrict%26sa%3DX%26um%3D1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com/imgres?imgurl=http://1.bp.blogspot.com/_FeRv5Cguz-E/SLgAXwFDk7I/AAAAAAAAC-0/AZxdu_lauVc/s400/sea_world_san_antonio_wounded_warrior_two.jpg&amp;imgrefurl=http://woundedtimes.blogspot.com/2008_08_01_archive.html&amp;usg=__nfR6rUZnFFlvHVra5sbzOGibb3M=&amp;h=266&amp;w=400&amp;sz=32&amp;hl=en&amp;start=279&amp;um=1&amp;tbnid=lQP8-vfTX6vAgM:&amp;tbnh=82&amp;tbnw=124&amp;prev=/images%3Fq%3Darabian%2Bnights%2Bwarrior%26ndsp%3D20%26hl%3Den%26safe%3Dstrict%26sa%3DN%26start%3D260%26um%3D1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google.com/imgres?imgurl=http://i97.photobucket.com/albums/l203/V2-Gundam/DnD/Archer_by_HAOSvip.jpg&amp;imgrefurl=http://forums.somethingawful.com/showthread.php%3Fthreadid%3D3234813%26pagenumber%3D2&amp;usg=__46Om6w_xAXDxKNkKTanv_RHg_cc=&amp;h=569&amp;w=456&amp;sz=117&amp;hl=en&amp;start=423&amp;um=1&amp;tbnid=FuZLB1ERiVmEqM:&amp;tbnh=134&amp;tbnw=107&amp;prev=/images%3Fq%3Darabian%2Bnights%2Bwarrior%26ndsp%3D20%26hl%3Den%26safe%3Dstrict%26sa%3DN%26start%3D420%26um%3D1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google.com/imgres?imgurl=http://danielprimed.com/wp-content/uploads/2009/08/prince-of-persia-sands-time.jpg&amp;imgrefurl=http://danielprimed.com/2009/08/prince-of-persia-trilogy-purity-transgressions-and-dichotomy/&amp;usg=__w1oi2rvK4UfzA2YWm4LPR6qssJk=&amp;h=404&amp;w=560&amp;sz=73&amp;hl=en&amp;start=689&amp;um=1&amp;tbnid=trJ0G1ELfT3vnM:&amp;tbnh=96&amp;tbnw=133&amp;prev=/images%3Fq%3Darabian%2Bnights%2Bwarrior%26ndsp%3D20%26hl%3Den%26safe%3Dstrict%26sa%3DN%26start%3D680%26um%3D1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images.google.com/imgres?imgurl=http://karenswhimsy.com/public-domain-images/spartan-warriors/images/spartan-warriors-1.jpg&amp;imgrefurl=http://karenswhimsy.com/spartan-warriors.shtm&amp;usg=__sc2VZ_wINEoPEdv5KHSRwmHcsg8=&amp;h=400&amp;w=500&amp;sz=56&amp;hl=en&amp;start=733&amp;um=1&amp;tbnid=yXFkW2H71HcZpM:&amp;tbnh=104&amp;tbnw=130&amp;prev=/images%3Fq%3Darabian%2Bnights%2Bwarrior%26ndsp%3D20%26hl%3Den%26safe%3Dstrict%26sa%3DN%26start%3D720%26um%3D1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images.google.com/imgres?imgurl=http://karenswhimsy.com/public-domain-images/greek-warriors/images/greek-warriors-2.jpg&amp;imgrefurl=http://karenswhimsy.com/greek-warriors.shtm&amp;usg=__vSmNYVEi2P1RWxBzMVJU6zkuRzs=&amp;h=742&amp;w=500&amp;sz=54&amp;hl=en&amp;start=736&amp;um=1&amp;tbnid=sPzNjYAzJEDYAM:&amp;tbnh=141&amp;tbnw=95&amp;prev=/images%3Fq%3Darabian%2Bnights%2Bwarrior%26ndsp%3D20%26hl%3Den%26safe%3Dstrict%26sa%3DN%26start%3D720%26um%3D1" TargetMode="External"/><Relationship Id="rId15" Type="http://schemas.openxmlformats.org/officeDocument/2006/relationships/image" Target="../media/image9.jpeg"/><Relationship Id="rId16" Type="http://schemas.openxmlformats.org/officeDocument/2006/relationships/hyperlink" Target="http://images.google.com/imgres?imgurl=http://images.gamersyde.com/gallery/public/9538/1648_0006.jpg&amp;imgrefurl=http://www.gamersyde.com/news_7333_en.html&amp;usg=__Z9p-QWyMqUzKGfBx7Mabi992JG0=&amp;h=720&amp;w=1280&amp;sz=272&amp;hl=en&amp;start=844&amp;um=1&amp;tbnid=DaVpeawe8s07DM:&amp;tbnh=84&amp;tbnw=150&amp;prev=/images%3Fq%3Darabian%2Bnights%2Bwarrior%26ndsp%3D20%26hl%3Den%26safe%3Dstrict%26sa%3DN%26start%3D840%26um%3D1" TargetMode="External"/><Relationship Id="rId17" Type="http://schemas.openxmlformats.org/officeDocument/2006/relationships/image" Target="../media/image10.jpeg"/><Relationship Id="rId18" Type="http://schemas.openxmlformats.org/officeDocument/2006/relationships/hyperlink" Target="http://images.google.com/imgres?imgurl=http://www.africanmartialarts.8m.com/images/arch61b.jpg&amp;imgrefurl=http://www.freewebs.com/raka/&amp;usg=__bmnQovz3GqumhJ64OVQ47xTC_yQ=&amp;h=294&amp;w=610&amp;sz=83&amp;hl=en&amp;start=929&amp;um=1&amp;tbnid=_HxO8SNgEV2BsM:&amp;tbnh=66&amp;tbnw=136&amp;prev=/images%3Fq%3Darabian%2Bnights%2Bwarrior%26ndsp%3D20%26hl%3Den%26safe%3Dstrict%26sa%3DN%26start%3D920%26um%3D1" TargetMode="External"/><Relationship Id="rId19" Type="http://schemas.openxmlformats.org/officeDocument/2006/relationships/image" Target="../media/image11.jpeg"/><Relationship Id="rId20" Type="http://schemas.openxmlformats.org/officeDocument/2006/relationships/hyperlink" Target="http://images.google.com/imgres?imgurl=http://www.emilydecola.com/portfolio/arabian_nights/image/decola_arabiannights_02.jpg&amp;imgrefurl=http://www.emilydecola.com/portfolio/arabian_nights/decola_arabiannights_02.html&amp;usg=__6F16TeYWJGDGWLV0XeHkD8Z9SKk=&amp;h=450&amp;w=600&amp;sz=64&amp;hl=en&amp;start=3&amp;um=1&amp;tbnid=L886y783wNdr5M:&amp;tbnh=101&amp;tbnw=135&amp;prev=/images%3Fq%3Darabian%2Bnights%2Bwarriors%26hl%3Den%26safe%3Dstrict%26um%3D1" TargetMode="External"/><Relationship Id="rId21" Type="http://schemas.openxmlformats.org/officeDocument/2006/relationships/image" Target="../media/image12.jpeg"/><Relationship Id="rId22" Type="http://schemas.openxmlformats.org/officeDocument/2006/relationships/hyperlink" Target="http://images.google.com/imgres?imgurl=http://iranpoliticsclub.net/history/historical-women/images/Persian%2520Women%2520Warriors-close.jpg&amp;imgrefurl=http://community.wizards.com/go/thread/view/75882/19912706/Character_Concept_Thread_Arabian_Nights_women%3Fnum%3D10%26pg%3D1&amp;usg=__IuoaWy2QD3wrts1DwRKiY_gEBvI=&amp;h=435&amp;w=564&amp;sz=83&amp;hl=en&amp;start=1&amp;um=1&amp;tbnid=7uJy7c0SYHgwZM:&amp;tbnh=103&amp;tbnw=134&amp;prev=/images%3Fq%3Darabian%2Bnights%2Bwarriors%26hl%3Den%26safe%3Dstrict%26um%3D1" TargetMode="External"/><Relationship Id="rId23" Type="http://schemas.openxmlformats.org/officeDocument/2006/relationships/image" Target="../media/image4.jpeg"/><Relationship Id="rId24" Type="http://schemas.openxmlformats.org/officeDocument/2006/relationships/hyperlink" Target="http://images.google.com/imgres?imgurl=http://delphibooksellers.com/gallery/1254990703.BALUCHISTAN%2520WARRIORS.JPG&amp;imgrefurl=http://delphibooksellers.com/index.php%3Fm%3DbookDetail%26bookID%3Dsal-1213&amp;usg=__hNzL134EJhVFehd2PBHnZh3YSTU=&amp;h=640&amp;w=423&amp;sz=74&amp;hl=en&amp;start=2&amp;um=1&amp;tbnid=bIc-yTWUFzdx7M:&amp;tbnh=137&amp;tbnw=91&amp;prev=/images%3Fq%3Darabian%2Bnights%2Bwarriors%26hl%3Den%26safe%3Dstrict%26um%3D1" TargetMode="External"/><Relationship Id="rId25" Type="http://schemas.openxmlformats.org/officeDocument/2006/relationships/image" Target="../media/image13.jpeg"/><Relationship Id="rId26" Type="http://schemas.openxmlformats.org/officeDocument/2006/relationships/image" Target="../media/image14.jpeg"/><Relationship Id="rId2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20083200">
            <a:off x="1066680" y="1066320"/>
            <a:ext cx="1602000" cy="2405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14600" y="990720"/>
            <a:ext cx="1890720" cy="2489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1049400">
            <a:off x="4266720" y="1142640"/>
            <a:ext cx="1886040" cy="259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 rot="18324000">
            <a:off x="466920" y="2352240"/>
            <a:ext cx="173340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09680" y="31240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 rot="18403200">
            <a:off x="546120" y="3623760"/>
            <a:ext cx="1066680" cy="2038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 rot="2496600">
            <a:off x="4879440" y="3095280"/>
            <a:ext cx="1416240" cy="2133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 rot="18385800">
            <a:off x="549360" y="5317560"/>
            <a:ext cx="1400040" cy="19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 rot="2912400">
            <a:off x="5203080" y="4226760"/>
            <a:ext cx="130968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828800" y="4952880"/>
            <a:ext cx="304812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 rot="2107800">
            <a:off x="4724280" y="5638680"/>
            <a:ext cx="1600200" cy="161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1981080" y="6324480"/>
            <a:ext cx="2971800" cy="962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 rot="19174200">
            <a:off x="487080" y="6535440"/>
            <a:ext cx="1539720" cy="2047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 rot="2332200">
            <a:off x="5181120" y="6553080"/>
            <a:ext cx="1109880" cy="2143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6"/>
          <a:stretch/>
        </p:blipFill>
        <p:spPr>
          <a:xfrm>
            <a:off x="2057400" y="7238880"/>
            <a:ext cx="30481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edipus R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497/6 B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477504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9:19:08Z</dcterms:created>
  <dc:creator> </dc:creator>
  <dc:description/>
  <dc:language>en-US</dc:language>
  <cp:lastModifiedBy> </cp:lastModifiedBy>
  <dcterms:modified xsi:type="dcterms:W3CDTF">2010-02-04T19:29:40Z</dcterms:modified>
  <cp:revision>5</cp:revision>
  <dc:subject/>
  <dc:title>Slide 1</dc:title>
</cp:coreProperties>
</file>